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ABF3-D624-4788-A1E7-714873718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placed on the fact that the farther the number is to the left of the number line the smaller it’s val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lude fraction/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identify absolute value as the distance from zero.  Discuss how since it is a distance away from something, it can never be a negative number.  You might want to do a class activity having student take 5 steps away from a central point in any direction, then discuss that regardless of the direction they went, they are still 5 steps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ussion should lead to the realization that it only works if you have one positive and one negative number initially because you would add the number of places to the right of zero for the positive number to the number of places to the left of zero for the negative number thus finding the total number of places between the number.  Give some examples of both positive and/or both negative to have them see what happens in these cases.  Point out that adding their absolute values will inflate the distance between them.  When both are the same sign, you simply subtract the smaller absolute value from the larger to find the difference.  Have them try several pairs of numbers to prove this tr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problem is an example of finding differences between positive and negative numbers that applies to the real world.  Allow students to generate additional real world situ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80B56-B0DD-424C-9AED-6D8092720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6C777-D229-4B0B-90DB-D7A43B14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E85C7-0821-47D6-A43C-F0A9AD0E2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61506-1219-4066-97BA-461AE9DB0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7A7B-BE09-4BC3-8968-A7870A452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ACAA-DFF2-42BC-AF6D-48EBBE76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4316C-3E9C-439D-A02D-C8F12811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F1AE0-240C-4F7C-8623-677B533F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2D57-BB3E-498F-9CB5-7BE506F54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6717-93E0-4A5B-8646-1DA3B039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60D5A-8259-481E-833A-498F49AA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D0BF-76C4-4272-8647-876DC051A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AAA5-25F4-4002-B5E3-146008B12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 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___ 3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___ -3</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___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compare integers and absolute values on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53"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Number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55"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wo number, we are basically comparing their positions on a number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following numbers on the number line:  -3, 8,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6415200" y="3384720"/>
                <a:ext cx="504720" cy="954000"/>
              </a:xfrm>
              <a:prstGeom prst="rect">
                <a:avLst/>
              </a:prstGeom>
            </p:spPr>
            <p:txBody>
              <a:bodyPr/>
              <a:p>
                <a14:m>
                  <m:oMath xmlns:m="http://schemas.openxmlformats.org/officeDocument/2006/math"/>
                </a14:m>
              </a:p>
            </p:txBody>
          </p:sp>
        </mc:Choice>
        <mc:Fallback/>
      </mc:AlternateContent>
      <p:sp>
        <p:nvSpPr>
          <p:cNvPr id="57" name=""/>
          <p:cNvSpPr/>
          <p:nvPr/>
        </p:nvSpPr>
        <p:spPr>
          <a:xfrm>
            <a:off x="446760" y="4761000"/>
            <a:ext cx="54867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ch number is the smallest?  How do you kn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ch number is the largest?  How do you know?</a:t>
            </a:r>
            <a:endParaRPr b="0" lang="en-US" sz="1800" spc="-1" strike="noStrike">
              <a:solidFill>
                <a:srgbClr val="000000"/>
              </a:solidFill>
              <a:latin typeface="Arial"/>
            </a:endParaRPr>
          </a:p>
        </p:txBody>
      </p:sp>
      <p:pic>
        <p:nvPicPr>
          <p:cNvPr id="58" name="" descr=""/>
          <p:cNvPicPr/>
          <p:nvPr/>
        </p:nvPicPr>
        <p:blipFill>
          <a:blip r:embed="rId1"/>
          <a:stretch/>
        </p:blipFill>
        <p:spPr>
          <a:xfrm>
            <a:off x="609480" y="3200400"/>
            <a:ext cx="769644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60" name="PlaceHolder 2"/>
          <p:cNvSpPr>
            <a:spLocks noGrp="1"/>
          </p:cNvSpPr>
          <p:nvPr>
            <p:ph/>
          </p:nvPr>
        </p:nvSpPr>
        <p:spPr>
          <a:xfrm>
            <a:off x="380880" y="1218960"/>
            <a:ext cx="8305920" cy="2819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we compare numbers we are really identifying their positions “compared” to one another on the number 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n the left is less than the number on the 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26960" y="4154400"/>
            <a:ext cx="61426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less than -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p:txBody>
      </p:sp>
      <p:sp>
        <p:nvSpPr>
          <p:cNvPr id="62" name=""/>
          <p:cNvSpPr/>
          <p:nvPr/>
        </p:nvSpPr>
        <p:spPr>
          <a:xfrm>
            <a:off x="517680" y="5373720"/>
            <a:ext cx="611172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greater than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64"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t>
            </a:r>
            <a:r>
              <a:rPr b="1" i="1" lang="en-US" sz="2800" spc="-1" strike="noStrike" u="sng">
                <a:solidFill>
                  <a:srgbClr val="000000"/>
                </a:solidFill>
                <a:uFillTx/>
                <a:latin typeface="Arial"/>
              </a:rPr>
              <a:t>absolute value</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4091040" y="2286000"/>
                <a:ext cx="496800" cy="762120"/>
              </a:xfrm>
              <a:prstGeom prst="rect">
                <a:avLst/>
              </a:prstGeom>
            </p:spPr>
            <p:txBody>
              <a:bodyPr/>
              <a:p>
                <a14:m>
                  <m:oMath xmlns:m="http://schemas.openxmlformats.org/officeDocument/2006/math">
                    <m:d>
                      <m:dPr>
                        <m:begChr m:val="|"/>
                        <m:endChr m:val="|"/>
                      </m:dPr>
                      <m:e>
                        <m:r>
                          <m:t xml:space="preserve">5</m:t>
                        </m:r>
                      </m:e>
                    </m:d>
                  </m:oMath>
                </a14:m>
              </a:p>
            </p:txBody>
          </p:sp>
        </mc:Choice>
        <mc:Fallback/>
      </mc:AlternateContent>
      <p:sp>
        <p:nvSpPr>
          <p:cNvPr id="66" name=""/>
          <p:cNvSpPr/>
          <p:nvPr/>
        </p:nvSpPr>
        <p:spPr>
          <a:xfrm>
            <a:off x="381600" y="2441520"/>
            <a:ext cx="38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bsolute of 5?  </a:t>
            </a:r>
            <a:endParaRPr b="0" lang="en-US" sz="2400" spc="-1" strike="noStrike">
              <a:solidFill>
                <a:srgbClr val="000000"/>
              </a:solidFill>
              <a:latin typeface="Arial"/>
            </a:endParaRPr>
          </a:p>
        </p:txBody>
      </p:sp>
      <p:sp>
        <p:nvSpPr>
          <p:cNvPr id="67" name=""/>
          <p:cNvSpPr/>
          <p:nvPr/>
        </p:nvSpPr>
        <p:spPr>
          <a:xfrm>
            <a:off x="517680" y="3809880"/>
            <a:ext cx="313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t>
            </a:r>
            <a:endParaRPr b="0" lang="en-US" sz="24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1828800" y="3657600"/>
                <a:ext cx="914400" cy="871560"/>
              </a:xfrm>
              <a:prstGeom prst="rect">
                <a:avLst/>
              </a:prstGeom>
            </p:spPr>
            <p:txBody>
              <a:bodyPr/>
              <a:p>
                <a14:m>
                  <m:oMath xmlns:m="http://schemas.openxmlformats.org/officeDocument/2006/math">
                    <m:d>
                      <m:dPr>
                        <m:begChr m:val="|"/>
                        <m:endChr m:val="|"/>
                      </m:dPr>
                      <m:e>
                        <m:r>
                          <m:t xml:space="preserve">−</m:t>
                        </m:r>
                        <m:r>
                          <m:t xml:space="preserve">5</m:t>
                        </m:r>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7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solute value of 5 is 5 and the absolute value of -5 is 5, what is the distance between the two numbers on a number line?</a:t>
            </a:r>
            <a:endParaRPr b="0" lang="en-US" sz="2800" spc="-1" strike="noStrike">
              <a:solidFill>
                <a:srgbClr val="000000"/>
              </a:solidFill>
              <a:latin typeface="Arial"/>
            </a:endParaRPr>
          </a:p>
        </p:txBody>
      </p:sp>
      <p:sp>
        <p:nvSpPr>
          <p:cNvPr id="71" name=""/>
          <p:cNvSpPr/>
          <p:nvPr/>
        </p:nvSpPr>
        <p:spPr>
          <a:xfrm>
            <a:off x="304920" y="4114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olute values of 5 and -5 add up to equal the distance between the two numb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dding the absolute values of two numbers always give you the distance between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990720" y="2590920"/>
            <a:ext cx="7281720" cy="145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ank account started with $75.  After paying bills, your account will be short $32.  What is the total of your b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4:17:09Z</dcterms:created>
  <dc:creator>demcgra</dc:creator>
  <dc:description/>
  <dc:language>en-US</dc:language>
  <cp:lastModifiedBy>Brian McGrath</cp:lastModifiedBy>
  <dcterms:modified xsi:type="dcterms:W3CDTF">2012-02-01T04:28:19Z</dcterms:modified>
  <cp:revision>4</cp:revision>
  <dc:subject/>
  <dc:title>Warm - up</dc:title>
</cp:coreProperties>
</file>